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016-528B-4FF0-9878-17605687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4A5-DFC0-4FF4-A64A-A4DBEC8F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6A8-A226-4457-AB04-0922C8A4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136-1614-44DC-AADC-563AD0E5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1413-0F54-4BAB-87A6-2C4B2434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324C-3F75-42E7-ACA2-2C6D62D5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EF3E-4B55-4664-940D-3A4917BB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FE52-A53D-4C37-AECE-A59100BF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8A80-BC8D-4FAA-8954-08343F2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DC22-6B06-433E-B23C-6A99E079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9DDC-2C65-49E8-832C-A2FBD3D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734-85A4-4CA4-A372-4C688B92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824A-B424-4369-A427-3D36E7FF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85F9-22DE-4AD4-B7A9-EA7955C7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8601-D3B7-4806-845F-578BD95F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C898-2761-4951-828C-C2DA7922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C654-CB87-4115-BFA8-9F7DF25C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027-F0BE-4E3A-8E2C-A17CD953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118-1304-480E-9758-371A9A23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A19-44C6-419A-BF95-73472D10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675-1545-48C0-A682-A19A41BD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E09-2F78-4963-B89A-1A79D86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FB7-B919-4108-AC84-25CB65E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6C7-38C5-4CE7-82AD-3663EBBB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C78A-E63D-45D5-B72D-2E08A91336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9DFD-8114-4C2D-88AD-856B96A68D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74520"/>
            <a:ext cx="777240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The encryp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elle Hammerschmid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u Schwar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UP 3 I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3/2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AA0C-608B-44ED-94D6-14187BDB032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ptograp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s users to exchange messages on a complete safely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ryption model based on private &amp; public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ptograp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onstant 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eys and algorithms are cracked by hack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uters’ calculating speed increas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&amp; more complex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re &amp; more saf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gressing at the same time as Intern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9F3-EDEB-48E9-8055-CC29967E495C}" type="slidenum">
              <a:t>10</a:t>
            </a:fld>
          </a:p>
        </p:txBody>
      </p:sp>
    </p:spTree>
  </p:cSld>
  <p:transition spd="med" advTm="66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cument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Histoire des codes secrets by Simon SINGH - Linux France Magazine, June 2001 July 20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5ffff"/>
                </a:solidFill>
                <a:latin typeface="Tahoma"/>
              </a:rPr>
              <a:t>http://www.wikiped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5ffff"/>
                </a:solidFill>
                <a:latin typeface="Tahoma"/>
              </a:rPr>
              <a:t>http://all.net/r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5ffff"/>
                </a:solidFill>
                <a:latin typeface="Tahoma"/>
              </a:rPr>
              <a:t>http://www.cdt.org/crypto/ad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5ffff"/>
                </a:solidFill>
                <a:latin typeface="Tahoma"/>
              </a:rPr>
              <a:t>http://www.cryptography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5ffff"/>
                </a:solidFill>
                <a:latin typeface="Tahoma"/>
              </a:rPr>
              <a:t>http://www.commentcamarch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4A6-7532-4905-9D00-F86510B53EE4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et network = essential tool of communic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antee the safety of these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ded into 2 part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im of the encryp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odel of encryption : R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5EF-41DE-4F65-AF7C-A4317FAE8AF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im of the encry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yptograph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ience which codes messages allowing to make them unintelligible without specific ac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d on arithmeti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 converting data in a succession of bits and making calculations on these figures in order 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ke them incomprehensibl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able the recipient  to deco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yptanaly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ience to develop the techniqu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rack the encryption’s algorithm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 of a k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cryption function’s parame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de of b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B0B-5552-4584-B832-A740D8FDD560}" type="slidenum">
              <a:t>3</a:t>
            </a:fld>
          </a:p>
        </p:txBody>
      </p:sp>
    </p:spTree>
  </p:cSld>
  <p:transition spd="med" advTm="6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im of the encry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coding message with an encoding key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ssage = cryptogram through the network in safety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hen the message arriv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oding key decodes the encoded messag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make it reada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cker want to fin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oding algorithm (to break the algorithm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 k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718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32000" y="836640"/>
            <a:ext cx="6610320" cy="2952720"/>
            <a:chOff x="1332000" y="836640"/>
            <a:chExt cx="6610320" cy="2952720"/>
          </a:xfrm>
        </p:grpSpPr>
        <p:pic>
          <p:nvPicPr>
            <p:cNvPr id="92" name="schema_a_modifier" descr=""/>
            <p:cNvPicPr/>
            <p:nvPr/>
          </p:nvPicPr>
          <p:blipFill>
            <a:blip r:embed="rId2"/>
            <a:stretch/>
          </p:blipFill>
          <p:spPr>
            <a:xfrm>
              <a:off x="1332000" y="846360"/>
              <a:ext cx="6610320" cy="29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76720" y="836640"/>
              <a:ext cx="1203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5481"/>
                  </a:solidFill>
                  <a:latin typeface="Arial"/>
                  <a:ea typeface="Arial"/>
                </a:rPr>
                <a:t>Enco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3800" y="854280"/>
              <a:ext cx="1655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5481"/>
                  </a:solidFill>
                  <a:latin typeface="Arial"/>
                  <a:ea typeface="Arial"/>
                </a:rPr>
                <a:t>Cryptanaly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49800" y="1486080"/>
              <a:ext cx="259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5481"/>
                  </a:solidFill>
                  <a:latin typeface="Arial"/>
                  <a:ea typeface="Arial"/>
                </a:rPr>
                <a:t>Cryptogram = encoded mess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60720" y="3213000"/>
              <a:ext cx="1655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5481"/>
                  </a:solidFill>
                  <a:latin typeface="Arial"/>
                  <a:ea typeface="Arial"/>
                </a:rPr>
                <a:t>Encoding ke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5080" y="3213000"/>
              <a:ext cx="1584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5481"/>
                  </a:solidFill>
                  <a:latin typeface="Arial"/>
                  <a:ea typeface="Arial"/>
                </a:rPr>
                <a:t>Decoding ke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C5F-339F-46AC-B159-ADD25CEC0F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im of the encry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ptograp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rve the data confidentia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arantee their integrity &amp; their authent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body will be able to deny the transa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k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AA8-BC9A-42DD-B894-0735E1CB2D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SA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SA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created in 197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est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mi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ema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need to exchange a key anym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the use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ivate ke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ublic ke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a mathematical complex one-way func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5734080"/>
            <a:ext cx="5796000" cy="4597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 single owner = messages’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4149720"/>
            <a:ext cx="6696000" cy="1584360"/>
          </a:xfrm>
          <a:prstGeom prst="rect">
            <a:avLst/>
          </a:prstGeom>
          <a:solidFill>
            <a:srgbClr val="0099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142-2712-4158-9D34-A9A00D966562}" type="slidenum">
              <a:t>6</a:t>
            </a:fld>
          </a:p>
        </p:txBody>
      </p:sp>
    </p:spTree>
  </p:cSld>
  <p:transition spd="med" advTm="5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SA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 private ke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d only by the receiver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read the encrypted transmitted message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ust keep in secret &amp; only known by the receiv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 public ke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d &amp; known by everybody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want to transmit an encrypted message to his own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 one-way functio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lex mathematical fun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body can find the parameter-numb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en if he know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 res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412-ADDF-412D-9FC3-19FE80B1B9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SA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720" y="1052640"/>
            <a:ext cx="460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meters o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put message converted to binary-c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Arial"/>
              </a:rPr>
              <a:t>+ Public k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the input message you n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ne-way 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the private k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Public k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number </a:t>
            </a:r>
            <a:r>
              <a:rPr b="1" lang="en-US" sz="2400" spc="-1" strike="noStrike">
                <a:solidFill>
                  <a:srgbClr val="ff99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Q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 &amp; 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g prime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itute the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ivate k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</a:t>
            </a:r>
            <a:r>
              <a:rPr b="1" lang="en-US" sz="2000" spc="-1" strike="noStrike">
                <a:solidFill>
                  <a:srgbClr val="ff99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find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 &amp; 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g private key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sks too much calcul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932360" y="5013360"/>
            <a:ext cx="4211640" cy="1610280"/>
            <a:chOff x="4932360" y="5013360"/>
            <a:chExt cx="4211640" cy="1610280"/>
          </a:xfrm>
        </p:grpSpPr>
        <p:sp>
          <p:nvSpPr>
            <p:cNvPr id="109" name=""/>
            <p:cNvSpPr/>
            <p:nvPr/>
          </p:nvSpPr>
          <p:spPr>
            <a:xfrm>
              <a:off x="5506920" y="501336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Encryp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8720" y="5492520"/>
              <a:ext cx="36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ahoma"/>
                </a:rPr>
                <a:t>Decryption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: use private k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08720" y="5919840"/>
              <a:ext cx="36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No decryption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: use public k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32360" y="5734080"/>
              <a:ext cx="57636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32360" y="6164280"/>
              <a:ext cx="576360" cy="1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32360" y="5252760"/>
              <a:ext cx="576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03640" y="1341360"/>
            <a:ext cx="3429000" cy="3552840"/>
            <a:chOff x="5003640" y="1341360"/>
            <a:chExt cx="3429000" cy="3552840"/>
          </a:xfrm>
        </p:grpSpPr>
        <p:sp>
          <p:nvSpPr>
            <p:cNvPr id="116" name=""/>
            <p:cNvSpPr/>
            <p:nvPr/>
          </p:nvSpPr>
          <p:spPr>
            <a:xfrm>
              <a:off x="5003640" y="1341360"/>
              <a:ext cx="3429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5481"/>
                  </a:solidFill>
                  <a:latin typeface="Tahoma"/>
                </a:rPr>
                <a:t>Input message + </a:t>
              </a:r>
              <a:r>
                <a:rPr b="1" lang="en-US" sz="2400" spc="-1" strike="noStrike">
                  <a:solidFill>
                    <a:srgbClr val="ff99cc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13000" y="2708280"/>
              <a:ext cx="341964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5481"/>
                  </a:solidFill>
                  <a:latin typeface="Tahoma"/>
                </a:rPr>
                <a:t>The one-way fun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13000" y="4068720"/>
              <a:ext cx="3419640" cy="825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5481"/>
                  </a:solidFill>
                  <a:latin typeface="Tahoma"/>
                </a:rPr>
                <a:t>The encrypted mess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9000" y="1836720"/>
              <a:ext cx="0" cy="838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300640" y="1765080"/>
              <a:ext cx="0" cy="93492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964280" y="1765080"/>
              <a:ext cx="0" cy="934920"/>
            </a:xfrm>
            <a:prstGeom prst="line">
              <a:avLst/>
            </a:prstGeom>
            <a:ln w="31680">
              <a:solidFill>
                <a:srgbClr val="ff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300640" y="3204720"/>
              <a:ext cx="0" cy="86364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964280" y="3133440"/>
              <a:ext cx="0" cy="93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69000" y="3230640"/>
              <a:ext cx="0" cy="838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21360" y="2052720"/>
              <a:ext cx="287280" cy="360360"/>
            </a:xfrm>
            <a:prstGeom prst="line">
              <a:avLst/>
            </a:prstGeom>
            <a:ln w="316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819920" y="1981080"/>
              <a:ext cx="288720" cy="432000"/>
            </a:xfrm>
            <a:prstGeom prst="line">
              <a:avLst/>
            </a:prstGeom>
            <a:ln w="316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716360" y="4869000"/>
            <a:ext cx="4427640" cy="1511280"/>
          </a:xfrm>
          <a:prstGeom prst="rect">
            <a:avLst/>
          </a:prstGeom>
          <a:solidFill>
            <a:srgbClr val="009999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B0D-D4D9-4B67-A9F0-CD2B73FCA1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SA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71944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ada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break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g private key (128 bi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ough Computers’ calculating sp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by the ba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281-3D17-4010-A92A-B3DC7CA006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3:43:38Z</dcterms:created>
  <dc:creator>Lou</dc:creator>
  <dc:description/>
  <dc:language>en-US</dc:language>
  <cp:lastModifiedBy>Lou</cp:lastModifiedBy>
  <dcterms:modified xsi:type="dcterms:W3CDTF">2004-01-28T13:00:05Z</dcterms:modified>
  <cp:revision>35</cp:revision>
  <dc:subject/>
  <dc:title>The encryption</dc:title>
</cp:coreProperties>
</file>